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88B-6861-4273-A0FD-02454BDC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AEB-E234-4073-AEB9-2F285B44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D10-156F-411E-8DDE-C2118C1B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BAF-34BA-4D6F-A276-4B29CCD1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3411-FBF1-4D53-AB6E-398756D0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8E59-978C-439C-828D-942315EC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3185-DB1C-4FFE-90F6-C91C814B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670D-91BA-454B-9FCC-E3464210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4F6A-2CB4-446E-927E-1EA68C9F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5CDA-B6E0-4FA0-8BE6-934F84E1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5499-E2FA-4F62-AF9E-94AEC286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ACE-3593-4DD6-8B3B-173D0C8A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C8AE-2922-4C51-88DE-C172BA08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D313-FE0F-453E-83F8-FE1F3607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F0C6-22E2-4F3F-9AFB-123AACD8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E6B1-44B7-4023-92A0-32BA84E4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ED94-C7BA-4B5B-9898-A8242AFF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F6A-C97F-4B38-B328-83C0650D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8C6-0A40-4311-A33F-CB6761A9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D38-C921-4095-B345-B9DF116E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07C-284C-46F7-8D91-99022711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927-5EA8-4426-A097-1FB51869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A05-D367-42DF-81DC-BA56163D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0EE-C4FE-4E69-8BEF-F8F646DD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963F-8A28-4F86-B125-BE51B4A4C4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711F-D40A-4444-8392-215C6CDCA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" descr=""/>
          <p:cNvPicPr/>
          <p:nvPr/>
        </p:nvPicPr>
        <p:blipFill>
          <a:blip r:embed="rId2"/>
          <a:stretch/>
        </p:blipFill>
        <p:spPr>
          <a:xfrm>
            <a:off x="0" y="490680"/>
            <a:ext cx="5327640" cy="6367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558720"/>
          </a:xfrm>
          <a:prstGeom prst="rect">
            <a:avLst/>
          </a:prstGeom>
          <a:solidFill>
            <a:srgbClr val="d36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1600200"/>
            <a:ext cx="3809880" cy="5943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Clarendon Cd (W1)"/>
              </a:rPr>
              <a:t>The Value of  Response Time &amp; Service Level   Management in   Post-Y 2K   Applications Managemen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-2701080" y="3534120"/>
            <a:ext cx="669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Garamond"/>
              </a:rPr>
              <a:t>M a k i n g   a p p l i c a t i o n s   w o r k   a n d   w o r k   t o g e t h e r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" name="Candlw2" descr=""/>
          <p:cNvPicPr/>
          <p:nvPr/>
        </p:nvPicPr>
        <p:blipFill>
          <a:blip r:embed="rId3"/>
          <a:stretch/>
        </p:blipFill>
        <p:spPr>
          <a:xfrm>
            <a:off x="184320" y="131760"/>
            <a:ext cx="1081080" cy="282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534520" y="30481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8381880" y="685800"/>
            <a:ext cx="533520" cy="761760"/>
            <a:chOff x="8381880" y="685800"/>
            <a:chExt cx="533520" cy="761760"/>
          </a:xfrm>
        </p:grpSpPr>
        <p:grpSp>
          <p:nvGrpSpPr>
            <p:cNvPr id="91" name=""/>
            <p:cNvGrpSpPr/>
            <p:nvPr/>
          </p:nvGrpSpPr>
          <p:grpSpPr>
            <a:xfrm>
              <a:off x="8383320" y="685800"/>
              <a:ext cx="532080" cy="761760"/>
              <a:chOff x="8383320" y="685800"/>
              <a:chExt cx="532080" cy="76176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8383320" y="943200"/>
                <a:ext cx="529560" cy="504360"/>
                <a:chOff x="8383320" y="943200"/>
                <a:chExt cx="529560" cy="5043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8383320" y="95184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664120" y="94608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817120" y="94608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521920" y="94320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8389080" y="685800"/>
                <a:ext cx="52632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8392320" y="1042560"/>
              <a:ext cx="46548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81880" y="1123560"/>
              <a:ext cx="53136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94120" y="1216800"/>
              <a:ext cx="33408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mpact of Y2K Conversion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ad errors can propagate - “domino” effect of faulty processing, corrupted data/application, network failur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ternal Sources: supply chain not read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ipple effect: Application logic, data flows, interfaces, VSAM definitions, CICS tables, records, screens, reports…all require extensive changes…impact on system resources and performance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lti-platform: Potential Cha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 standard tool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ed for service level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re cross-platform link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 point of contro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gh labor cos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consistent problem respon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gative business impa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724280" y="1674720"/>
            <a:ext cx="838440" cy="1068120"/>
            <a:chOff x="4724280" y="1674720"/>
            <a:chExt cx="838440" cy="1068120"/>
          </a:xfrm>
        </p:grpSpPr>
        <p:sp>
          <p:nvSpPr>
            <p:cNvPr id="206" name=""/>
            <p:cNvSpPr/>
            <p:nvPr/>
          </p:nvSpPr>
          <p:spPr>
            <a:xfrm>
              <a:off x="4724280" y="1674720"/>
              <a:ext cx="838440" cy="91440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24280" y="1767960"/>
              <a:ext cx="80496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41440" y="228600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25360" y="2037600"/>
              <a:ext cx="80496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391520" y="5257800"/>
            <a:ext cx="1447560" cy="1174680"/>
            <a:chOff x="7391520" y="5257800"/>
            <a:chExt cx="1447560" cy="1174680"/>
          </a:xfrm>
        </p:grpSpPr>
        <p:sp>
          <p:nvSpPr>
            <p:cNvPr id="211" name=""/>
            <p:cNvSpPr/>
            <p:nvPr/>
          </p:nvSpPr>
          <p:spPr>
            <a:xfrm>
              <a:off x="7391520" y="5257800"/>
              <a:ext cx="1447560" cy="9385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72880" y="5410440"/>
              <a:ext cx="116208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72880" y="5563440"/>
              <a:ext cx="36180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72880" y="5710680"/>
              <a:ext cx="1284480" cy="92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7320" y="60660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65640" y="5563440"/>
              <a:ext cx="36180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68120" y="5563440"/>
              <a:ext cx="4892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72880" y="5279400"/>
              <a:ext cx="128448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696520" y="5410440"/>
              <a:ext cx="0" cy="10908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52360" y="5869080"/>
              <a:ext cx="4892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05040" y="5847120"/>
              <a:ext cx="4892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56480" y="6065640"/>
              <a:ext cx="4892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867280" y="1752480"/>
            <a:ext cx="219240" cy="422280"/>
            <a:chOff x="5867280" y="1752480"/>
            <a:chExt cx="219240" cy="422280"/>
          </a:xfrm>
        </p:grpSpPr>
        <p:sp>
          <p:nvSpPr>
            <p:cNvPr id="224" name=""/>
            <p:cNvSpPr/>
            <p:nvPr/>
          </p:nvSpPr>
          <p:spPr>
            <a:xfrm>
              <a:off x="5867280" y="1752480"/>
              <a:ext cx="21924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89240" y="18082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638680" y="5486400"/>
            <a:ext cx="1447920" cy="1174680"/>
            <a:chOff x="5638680" y="5486400"/>
            <a:chExt cx="1447920" cy="1174680"/>
          </a:xfrm>
        </p:grpSpPr>
        <p:sp>
          <p:nvSpPr>
            <p:cNvPr id="227" name=""/>
            <p:cNvSpPr/>
            <p:nvPr/>
          </p:nvSpPr>
          <p:spPr>
            <a:xfrm>
              <a:off x="5638680" y="5486400"/>
              <a:ext cx="1447920" cy="9385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20040" y="5639040"/>
              <a:ext cx="11624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20040" y="5792040"/>
              <a:ext cx="36180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20040" y="5939280"/>
              <a:ext cx="1284840" cy="92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94480" y="62946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12800" y="5792040"/>
              <a:ext cx="36180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15640" y="5792040"/>
              <a:ext cx="4892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20040" y="5508000"/>
              <a:ext cx="12848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44040" y="5639040"/>
              <a:ext cx="0" cy="10908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99520" y="6097680"/>
              <a:ext cx="4892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52560" y="6075720"/>
              <a:ext cx="4892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03640" y="6294240"/>
              <a:ext cx="4892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8001000" y="3886200"/>
            <a:ext cx="838080" cy="1068120"/>
            <a:chOff x="8001000" y="3886200"/>
            <a:chExt cx="838080" cy="1068120"/>
          </a:xfrm>
        </p:grpSpPr>
        <p:sp>
          <p:nvSpPr>
            <p:cNvPr id="240" name=""/>
            <p:cNvSpPr/>
            <p:nvPr/>
          </p:nvSpPr>
          <p:spPr>
            <a:xfrm>
              <a:off x="8001000" y="3886200"/>
              <a:ext cx="838080" cy="91440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1000" y="3979440"/>
              <a:ext cx="80460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17800" y="44974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02080" y="4249080"/>
              <a:ext cx="80460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477120" y="4267080"/>
            <a:ext cx="838080" cy="1068120"/>
            <a:chOff x="6477120" y="4267080"/>
            <a:chExt cx="838080" cy="1068120"/>
          </a:xfrm>
        </p:grpSpPr>
        <p:sp>
          <p:nvSpPr>
            <p:cNvPr id="245" name=""/>
            <p:cNvSpPr/>
            <p:nvPr/>
          </p:nvSpPr>
          <p:spPr>
            <a:xfrm>
              <a:off x="6477120" y="4267080"/>
              <a:ext cx="838080" cy="91440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77120" y="4360320"/>
              <a:ext cx="80460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93920" y="487836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8200" y="4629960"/>
              <a:ext cx="80460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24280" y="3962520"/>
            <a:ext cx="838440" cy="1068120"/>
            <a:chOff x="4724280" y="3962520"/>
            <a:chExt cx="838440" cy="1068120"/>
          </a:xfrm>
        </p:grpSpPr>
        <p:sp>
          <p:nvSpPr>
            <p:cNvPr id="250" name=""/>
            <p:cNvSpPr/>
            <p:nvPr/>
          </p:nvSpPr>
          <p:spPr>
            <a:xfrm>
              <a:off x="4724280" y="3962520"/>
              <a:ext cx="838440" cy="9140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4055760"/>
              <a:ext cx="80496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41440" y="457380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25360" y="4325040"/>
              <a:ext cx="80496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001000" y="1522440"/>
            <a:ext cx="838080" cy="1068120"/>
            <a:chOff x="8001000" y="1522440"/>
            <a:chExt cx="838080" cy="1068120"/>
          </a:xfrm>
        </p:grpSpPr>
        <p:sp>
          <p:nvSpPr>
            <p:cNvPr id="255" name=""/>
            <p:cNvSpPr/>
            <p:nvPr/>
          </p:nvSpPr>
          <p:spPr>
            <a:xfrm>
              <a:off x="8001000" y="1522440"/>
              <a:ext cx="838080" cy="91440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01000" y="1615680"/>
              <a:ext cx="80460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17800" y="213372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02080" y="1885320"/>
              <a:ext cx="80460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791320" y="3124080"/>
            <a:ext cx="218880" cy="422280"/>
            <a:chOff x="5791320" y="3124080"/>
            <a:chExt cx="218880" cy="422280"/>
          </a:xfrm>
        </p:grpSpPr>
        <p:sp>
          <p:nvSpPr>
            <p:cNvPr id="260" name=""/>
            <p:cNvSpPr/>
            <p:nvPr/>
          </p:nvSpPr>
          <p:spPr>
            <a:xfrm>
              <a:off x="5791320" y="3124080"/>
              <a:ext cx="21888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13280" y="31798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086600" y="1752480"/>
            <a:ext cx="219240" cy="422280"/>
            <a:chOff x="7086600" y="1752480"/>
            <a:chExt cx="219240" cy="422280"/>
          </a:xfrm>
        </p:grpSpPr>
        <p:sp>
          <p:nvSpPr>
            <p:cNvPr id="263" name=""/>
            <p:cNvSpPr/>
            <p:nvPr/>
          </p:nvSpPr>
          <p:spPr>
            <a:xfrm>
              <a:off x="7086600" y="1752480"/>
              <a:ext cx="21924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08560" y="18082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943600" y="4343400"/>
            <a:ext cx="219240" cy="422280"/>
            <a:chOff x="5943600" y="4343400"/>
            <a:chExt cx="219240" cy="422280"/>
          </a:xfrm>
        </p:grpSpPr>
        <p:sp>
          <p:nvSpPr>
            <p:cNvPr id="266" name=""/>
            <p:cNvSpPr/>
            <p:nvPr/>
          </p:nvSpPr>
          <p:spPr>
            <a:xfrm>
              <a:off x="5943600" y="4343400"/>
              <a:ext cx="21924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65560" y="43992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248520" y="2438280"/>
            <a:ext cx="218880" cy="422280"/>
            <a:chOff x="6248520" y="2438280"/>
            <a:chExt cx="218880" cy="422280"/>
          </a:xfrm>
        </p:grpSpPr>
        <p:sp>
          <p:nvSpPr>
            <p:cNvPr id="269" name=""/>
            <p:cNvSpPr/>
            <p:nvPr/>
          </p:nvSpPr>
          <p:spPr>
            <a:xfrm>
              <a:off x="6248520" y="2438280"/>
              <a:ext cx="21888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70480" y="24940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8229600" y="2590920"/>
            <a:ext cx="219240" cy="422280"/>
            <a:chOff x="8229600" y="2590920"/>
            <a:chExt cx="219240" cy="422280"/>
          </a:xfrm>
        </p:grpSpPr>
        <p:sp>
          <p:nvSpPr>
            <p:cNvPr id="272" name=""/>
            <p:cNvSpPr/>
            <p:nvPr/>
          </p:nvSpPr>
          <p:spPr>
            <a:xfrm>
              <a:off x="8229600" y="2590920"/>
              <a:ext cx="21924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251560" y="26467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629400" y="3352680"/>
            <a:ext cx="219240" cy="422280"/>
            <a:chOff x="6629400" y="3352680"/>
            <a:chExt cx="219240" cy="422280"/>
          </a:xfrm>
        </p:grpSpPr>
        <p:sp>
          <p:nvSpPr>
            <p:cNvPr id="275" name=""/>
            <p:cNvSpPr/>
            <p:nvPr/>
          </p:nvSpPr>
          <p:spPr>
            <a:xfrm>
              <a:off x="6629400" y="3352680"/>
              <a:ext cx="21924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51360" y="34084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391520" y="2286000"/>
            <a:ext cx="218880" cy="422280"/>
            <a:chOff x="7391520" y="2286000"/>
            <a:chExt cx="218880" cy="422280"/>
          </a:xfrm>
        </p:grpSpPr>
        <p:sp>
          <p:nvSpPr>
            <p:cNvPr id="278" name=""/>
            <p:cNvSpPr/>
            <p:nvPr/>
          </p:nvSpPr>
          <p:spPr>
            <a:xfrm>
              <a:off x="7391520" y="2286000"/>
              <a:ext cx="21888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13480" y="23418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7620120" y="4343400"/>
            <a:ext cx="218880" cy="422280"/>
            <a:chOff x="7620120" y="4343400"/>
            <a:chExt cx="218880" cy="422280"/>
          </a:xfrm>
        </p:grpSpPr>
        <p:sp>
          <p:nvSpPr>
            <p:cNvPr id="281" name=""/>
            <p:cNvSpPr/>
            <p:nvPr/>
          </p:nvSpPr>
          <p:spPr>
            <a:xfrm>
              <a:off x="7620120" y="4343400"/>
              <a:ext cx="21888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42080" y="43992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162920" y="2971800"/>
            <a:ext cx="218880" cy="422280"/>
            <a:chOff x="7162920" y="2971800"/>
            <a:chExt cx="218880" cy="422280"/>
          </a:xfrm>
        </p:grpSpPr>
        <p:sp>
          <p:nvSpPr>
            <p:cNvPr id="284" name=""/>
            <p:cNvSpPr/>
            <p:nvPr/>
          </p:nvSpPr>
          <p:spPr>
            <a:xfrm>
              <a:off x="7162920" y="2971800"/>
              <a:ext cx="21888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4880" y="30276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8381880" y="3276720"/>
            <a:ext cx="219240" cy="422280"/>
            <a:chOff x="8381880" y="3276720"/>
            <a:chExt cx="219240" cy="422280"/>
          </a:xfrm>
        </p:grpSpPr>
        <p:sp>
          <p:nvSpPr>
            <p:cNvPr id="287" name=""/>
            <p:cNvSpPr/>
            <p:nvPr/>
          </p:nvSpPr>
          <p:spPr>
            <a:xfrm>
              <a:off x="8381880" y="3276720"/>
              <a:ext cx="21924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403840" y="33325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848720" y="2971800"/>
            <a:ext cx="218880" cy="422280"/>
            <a:chOff x="7848720" y="2971800"/>
            <a:chExt cx="218880" cy="422280"/>
          </a:xfrm>
        </p:grpSpPr>
        <p:sp>
          <p:nvSpPr>
            <p:cNvPr id="290" name=""/>
            <p:cNvSpPr/>
            <p:nvPr/>
          </p:nvSpPr>
          <p:spPr>
            <a:xfrm>
              <a:off x="7848720" y="2971800"/>
              <a:ext cx="21888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70680" y="30276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315200" y="3505320"/>
            <a:ext cx="219240" cy="422280"/>
            <a:chOff x="7315200" y="3505320"/>
            <a:chExt cx="219240" cy="422280"/>
          </a:xfrm>
        </p:grpSpPr>
        <p:sp>
          <p:nvSpPr>
            <p:cNvPr id="293" name=""/>
            <p:cNvSpPr/>
            <p:nvPr/>
          </p:nvSpPr>
          <p:spPr>
            <a:xfrm>
              <a:off x="7315200" y="3505320"/>
              <a:ext cx="21924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37160" y="35611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y Service Level Assuranc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 support of the business - eg. productiv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asis for chargeback, determining RO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igns business needs &amp; goals and technological capabili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ypical Element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sponse Time Perform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nsactions/Activities complet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vailability/Utiliz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06200" y="4568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LA: Industry Analysts Say...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8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spcBef>
                <a:spcPts val="700"/>
              </a:spcBef>
              <a:buClr>
                <a:srgbClr val="0066ff"/>
              </a:buClr>
              <a:buFont typeface="Wingdings" charset="2"/>
              <a:buChar char=""/>
              <a:tabLst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ystems management, network management, and SLA monitoring mechanisms will converge by 1999 (.8p).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ccecff"/>
                </a:solidFill>
                <a:latin typeface="Tahoma"/>
              </a:rPr>
              <a:t>Giga, 1/98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0066ff"/>
              </a:buClr>
              <a:buFont typeface="Wingdings" charset="2"/>
              <a:buChar char=""/>
              <a:tabLst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ustomers are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Tahoma"/>
              </a:rPr>
              <a:t>moving from component management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to service management.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ccecff"/>
                </a:solidFill>
                <a:latin typeface="Tahoma"/>
              </a:rPr>
              <a:t>Meta Group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11080" y="456840"/>
            <a:ext cx="718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LA: Industry Analysts Say…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647960"/>
          </a:xfrm>
          <a:prstGeom prst="rect">
            <a:avLst/>
          </a:prstGeom>
          <a:solidFill>
            <a:srgbClr val="993366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ffective management requires the ability to view availability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Tahoma"/>
              </a:rPr>
              <a:t>from the perspective of the business application.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ccecff"/>
                </a:solidFill>
                <a:latin typeface="Tahoma"/>
              </a:rPr>
              <a:t>International Data Corpor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nagers are shifting from a central management console to service level management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Tahoma"/>
              </a:rPr>
              <a:t>focusing on critical applications from an end user perspectiv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ccecff"/>
                </a:solidFill>
                <a:latin typeface="Tahoma"/>
              </a:rPr>
              <a:t>Communications Week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8600" y="1981080"/>
            <a:ext cx="8915400" cy="4829760"/>
          </a:xfrm>
          <a:prstGeom prst="rect">
            <a:avLst/>
          </a:prstGeom>
          <a:solidFill>
            <a:srgbClr val="9933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Baskerville"/>
              </a:rPr>
              <a:t>IT organizations are defining service levels for distributed applications including  application availability and </a:t>
            </a:r>
            <a:r>
              <a:rPr b="1" lang="en-US" sz="2600" spc="-1" strike="noStrike" u="sng">
                <a:solidFill>
                  <a:srgbClr val="ccecff"/>
                </a:solidFill>
                <a:uFillTx/>
                <a:latin typeface="Baskerville"/>
              </a:rPr>
              <a:t>response times for end users</a:t>
            </a:r>
            <a:r>
              <a:rPr b="1" lang="en-US" sz="2600" spc="-1" strike="noStrike">
                <a:solidFill>
                  <a:srgbClr val="ccecff"/>
                </a:solidFill>
                <a:latin typeface="Baskerville"/>
              </a:rPr>
              <a:t> accessing them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1" i="1" lang="en-US" sz="2400" spc="-1" strike="noStrike">
                <a:solidFill>
                  <a:srgbClr val="ccecff"/>
                </a:solidFill>
                <a:latin typeface="Baskerville"/>
              </a:rPr>
              <a:t>Hurwitz Grou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Baskerville"/>
              </a:rPr>
              <a:t>Service management is a strategy intended to provide, and perhaps guarantee the levels of service from IT to the users…Therefore, </a:t>
            </a:r>
            <a:r>
              <a:rPr b="1" lang="en-US" sz="2600" spc="-1" strike="noStrike" u="sng">
                <a:solidFill>
                  <a:srgbClr val="ccecff"/>
                </a:solidFill>
                <a:uFillTx/>
                <a:latin typeface="Baskerville"/>
              </a:rPr>
              <a:t>it is </a:t>
            </a:r>
            <a:r>
              <a:rPr b="1" lang="en-US" sz="2600" spc="-1" strike="noStrike" u="sng">
                <a:solidFill>
                  <a:srgbClr val="ccecff"/>
                </a:solidFill>
                <a:uFillTx/>
                <a:latin typeface="Baskerville"/>
              </a:rPr>
              <a:t>important for IT to find ways of obtaining response time data for distributed systems</a:t>
            </a:r>
            <a:r>
              <a:rPr b="1" lang="en-US" sz="2600" spc="-1" strike="noStrike">
                <a:solidFill>
                  <a:srgbClr val="ccecff"/>
                </a:solidFill>
                <a:latin typeface="Baskerville"/>
              </a:rPr>
              <a:t>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1" i="1" lang="en-US" sz="2400" spc="-1" strike="noStrike">
                <a:solidFill>
                  <a:srgbClr val="ccecff"/>
                </a:solidFill>
                <a:latin typeface="Baskerville"/>
              </a:rPr>
              <a:t>Managing Systems Develop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28600"/>
            <a:ext cx="8915400" cy="1600200"/>
          </a:xfrm>
          <a:prstGeom prst="rect">
            <a:avLst/>
          </a:prstGeom>
          <a:solidFill>
            <a:srgbClr val="80008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99"/>
                </a:solidFill>
                <a:latin typeface="Century Schoolbook"/>
              </a:rPr>
              <a:t>Industry Analysts Say….Shift to End User Performance Management</a:t>
            </a:r>
            <a:r>
              <a:rPr b="0" lang="en-US" sz="3200" spc="-1" strike="noStrike">
                <a:solidFill>
                  <a:srgbClr val="ffff99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E-Vendors Say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erry Kaplan, CEO of OnSale - “In 1999, the most important trend driving growth of E-Commerce will be customer service! ….customers will start to demand performance!” (a.k.a. response, speed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llen Hancock, CEO of Exodus Comms -”the most important trend will be sites that are easier to use and allow transactions to be conducted FASTER and more simpl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lti-Platform Systems Management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ages of evolutio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 SLA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ilo approach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ve to More Consistent approach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o account for Enterprise Integration &amp; Server Consolidation - Cross platform servers, databases, applications, network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xt: Integrated Service Level Management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1916280" y="3876840"/>
            <a:ext cx="5676840" cy="2371320"/>
            <a:chOff x="1916280" y="3876840"/>
            <a:chExt cx="5676840" cy="2371320"/>
          </a:xfrm>
        </p:grpSpPr>
        <p:sp>
          <p:nvSpPr>
            <p:cNvPr id="308" name=""/>
            <p:cNvSpPr/>
            <p:nvPr/>
          </p:nvSpPr>
          <p:spPr>
            <a:xfrm>
              <a:off x="1916280" y="3918600"/>
              <a:ext cx="1028520" cy="232956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26240" y="3890520"/>
              <a:ext cx="1028520" cy="232956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64600" y="3890520"/>
              <a:ext cx="1028520" cy="232956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02000" y="3876840"/>
              <a:ext cx="1028880" cy="232956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905120" y="2666880"/>
            <a:ext cx="1066680" cy="21528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6100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2666880"/>
            <a:ext cx="1066680" cy="21528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6100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76920" y="2666880"/>
            <a:ext cx="1066680" cy="21528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6100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2666880"/>
            <a:ext cx="1067040" cy="21528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6100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st-Y2K Systems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lo Approach - Multiple SLA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882080" y="57214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S/39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48440" y="5721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05720" y="57214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S/40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76280" y="57214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98640" y="4011480"/>
            <a:ext cx="113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pp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LTP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71760" y="4011480"/>
            <a:ext cx="113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pp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LTP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06800" y="4011480"/>
            <a:ext cx="113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pp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LTP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53080" y="3962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pp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LTP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792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L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65520" y="2792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L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24600" y="2792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L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40640" y="2792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L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LAs:Accelerating Complexi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ltiplying apps -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2K “application stack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ifficult to maintai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liferating boxes,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lti-flavors, network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lti/Cross platform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atabases, middleware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/S, interfaces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Version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086600" y="2666880"/>
            <a:ext cx="1298520" cy="1524240"/>
            <a:chOff x="7086600" y="2666880"/>
            <a:chExt cx="1298520" cy="1524240"/>
          </a:xfrm>
        </p:grpSpPr>
        <p:sp>
          <p:nvSpPr>
            <p:cNvPr id="333" name=""/>
            <p:cNvSpPr/>
            <p:nvPr/>
          </p:nvSpPr>
          <p:spPr>
            <a:xfrm>
              <a:off x="7086600" y="2666880"/>
              <a:ext cx="1298520" cy="15242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86600" y="2822760"/>
              <a:ext cx="1246320" cy="249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72080" y="378252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UNIX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88400" y="3271680"/>
              <a:ext cx="1246680" cy="249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240600" y="2819520"/>
            <a:ext cx="416880" cy="457200"/>
            <a:chOff x="6240600" y="2819520"/>
            <a:chExt cx="416880" cy="457200"/>
          </a:xfrm>
        </p:grpSpPr>
        <p:sp>
          <p:nvSpPr>
            <p:cNvPr id="338" name=""/>
            <p:cNvSpPr/>
            <p:nvPr/>
          </p:nvSpPr>
          <p:spPr>
            <a:xfrm>
              <a:off x="6248520" y="2819520"/>
              <a:ext cx="38124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40600" y="295200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019920" y="4952880"/>
            <a:ext cx="1298520" cy="1524240"/>
            <a:chOff x="6019920" y="4952880"/>
            <a:chExt cx="1298520" cy="1524240"/>
          </a:xfrm>
        </p:grpSpPr>
        <p:sp>
          <p:nvSpPr>
            <p:cNvPr id="341" name=""/>
            <p:cNvSpPr/>
            <p:nvPr/>
          </p:nvSpPr>
          <p:spPr>
            <a:xfrm>
              <a:off x="6019920" y="4952880"/>
              <a:ext cx="1298520" cy="15242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108760"/>
              <a:ext cx="1246320" cy="249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05400" y="606852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UNIX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21720" y="5557680"/>
              <a:ext cx="1246680" cy="249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391520" y="4572000"/>
            <a:ext cx="1298520" cy="1523880"/>
            <a:chOff x="7391520" y="4572000"/>
            <a:chExt cx="1298520" cy="1523880"/>
          </a:xfrm>
        </p:grpSpPr>
        <p:sp>
          <p:nvSpPr>
            <p:cNvPr id="346" name=""/>
            <p:cNvSpPr/>
            <p:nvPr/>
          </p:nvSpPr>
          <p:spPr>
            <a:xfrm>
              <a:off x="7391520" y="4572000"/>
              <a:ext cx="1298520" cy="152388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91520" y="4727880"/>
              <a:ext cx="1246320" cy="249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77000" y="568764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UNIX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3320" y="5176440"/>
              <a:ext cx="1246680" cy="249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648320" y="5334120"/>
            <a:ext cx="1298520" cy="1523880"/>
            <a:chOff x="4648320" y="5334120"/>
            <a:chExt cx="1298520" cy="1523880"/>
          </a:xfrm>
        </p:grpSpPr>
        <p:sp>
          <p:nvSpPr>
            <p:cNvPr id="351" name=""/>
            <p:cNvSpPr/>
            <p:nvPr/>
          </p:nvSpPr>
          <p:spPr>
            <a:xfrm>
              <a:off x="4648320" y="5334120"/>
              <a:ext cx="1298520" cy="152388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48320" y="5490000"/>
              <a:ext cx="1246320" cy="249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33800" y="644976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UNIX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50120" y="5938560"/>
              <a:ext cx="1246680" cy="249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726080" y="2438280"/>
            <a:ext cx="416880" cy="457200"/>
            <a:chOff x="4726080" y="2438280"/>
            <a:chExt cx="416880" cy="457200"/>
          </a:xfrm>
        </p:grpSpPr>
        <p:sp>
          <p:nvSpPr>
            <p:cNvPr id="356" name=""/>
            <p:cNvSpPr/>
            <p:nvPr/>
          </p:nvSpPr>
          <p:spPr>
            <a:xfrm>
              <a:off x="4734000" y="2438280"/>
              <a:ext cx="38124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26080" y="257076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564520" y="2514600"/>
            <a:ext cx="416880" cy="457200"/>
            <a:chOff x="5564520" y="2514600"/>
            <a:chExt cx="416880" cy="457200"/>
          </a:xfrm>
        </p:grpSpPr>
        <p:sp>
          <p:nvSpPr>
            <p:cNvPr id="359" name=""/>
            <p:cNvSpPr/>
            <p:nvPr/>
          </p:nvSpPr>
          <p:spPr>
            <a:xfrm>
              <a:off x="5572440" y="2514600"/>
              <a:ext cx="38088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64520" y="264708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335920" y="1676520"/>
            <a:ext cx="416880" cy="457200"/>
            <a:chOff x="5335920" y="1676520"/>
            <a:chExt cx="416880" cy="457200"/>
          </a:xfrm>
        </p:grpSpPr>
        <p:sp>
          <p:nvSpPr>
            <p:cNvPr id="362" name=""/>
            <p:cNvSpPr/>
            <p:nvPr/>
          </p:nvSpPr>
          <p:spPr>
            <a:xfrm>
              <a:off x="5343840" y="1676520"/>
              <a:ext cx="38088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5920" y="180900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107320" y="3124080"/>
            <a:ext cx="416880" cy="457200"/>
            <a:chOff x="5107320" y="3124080"/>
            <a:chExt cx="416880" cy="457200"/>
          </a:xfrm>
        </p:grpSpPr>
        <p:sp>
          <p:nvSpPr>
            <p:cNvPr id="365" name=""/>
            <p:cNvSpPr/>
            <p:nvPr/>
          </p:nvSpPr>
          <p:spPr>
            <a:xfrm>
              <a:off x="5115240" y="3124080"/>
              <a:ext cx="38088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07320" y="325656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793120" y="3657600"/>
            <a:ext cx="416880" cy="457200"/>
            <a:chOff x="5793120" y="3657600"/>
            <a:chExt cx="416880" cy="457200"/>
          </a:xfrm>
        </p:grpSpPr>
        <p:sp>
          <p:nvSpPr>
            <p:cNvPr id="368" name=""/>
            <p:cNvSpPr/>
            <p:nvPr/>
          </p:nvSpPr>
          <p:spPr>
            <a:xfrm>
              <a:off x="5801040" y="3657600"/>
              <a:ext cx="38088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93120" y="379008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859800" y="1676520"/>
            <a:ext cx="416880" cy="457200"/>
            <a:chOff x="6859800" y="1676520"/>
            <a:chExt cx="416880" cy="457200"/>
          </a:xfrm>
        </p:grpSpPr>
        <p:sp>
          <p:nvSpPr>
            <p:cNvPr id="371" name=""/>
            <p:cNvSpPr/>
            <p:nvPr/>
          </p:nvSpPr>
          <p:spPr>
            <a:xfrm>
              <a:off x="6867720" y="1676520"/>
              <a:ext cx="38124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59800" y="180900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268880" y="3505320"/>
            <a:ext cx="416880" cy="457200"/>
            <a:chOff x="4268880" y="3505320"/>
            <a:chExt cx="416880" cy="457200"/>
          </a:xfrm>
        </p:grpSpPr>
        <p:sp>
          <p:nvSpPr>
            <p:cNvPr id="374" name=""/>
            <p:cNvSpPr/>
            <p:nvPr/>
          </p:nvSpPr>
          <p:spPr>
            <a:xfrm>
              <a:off x="4276800" y="3505320"/>
              <a:ext cx="38124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68880" y="363780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7850520" y="1523880"/>
            <a:ext cx="416880" cy="457200"/>
            <a:chOff x="7850520" y="1523880"/>
            <a:chExt cx="416880" cy="457200"/>
          </a:xfrm>
        </p:grpSpPr>
        <p:sp>
          <p:nvSpPr>
            <p:cNvPr id="377" name=""/>
            <p:cNvSpPr/>
            <p:nvPr/>
          </p:nvSpPr>
          <p:spPr>
            <a:xfrm>
              <a:off x="7858440" y="1523880"/>
              <a:ext cx="38088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50520" y="165636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345200" y="1600200"/>
            <a:ext cx="416880" cy="457200"/>
            <a:chOff x="4345200" y="1600200"/>
            <a:chExt cx="416880" cy="457200"/>
          </a:xfrm>
        </p:grpSpPr>
        <p:sp>
          <p:nvSpPr>
            <p:cNvPr id="380" name=""/>
            <p:cNvSpPr/>
            <p:nvPr/>
          </p:nvSpPr>
          <p:spPr>
            <a:xfrm>
              <a:off x="4353120" y="1600200"/>
              <a:ext cx="38124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45200" y="173268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80" idx="3"/>
            <a:endCxn id="351" idx="0"/>
          </p:cNvCxnSpPr>
          <p:nvPr/>
        </p:nvCxnSpPr>
        <p:spPr>
          <a:xfrm>
            <a:off x="4733640" y="1828440"/>
            <a:ext cx="564120" cy="3506040"/>
          </a:xfrm>
          <a:prstGeom prst="curved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3" name=""/>
          <p:cNvCxnSpPr>
            <a:stCxn id="380" idx="3"/>
            <a:endCxn id="380" idx="3"/>
          </p:cNvCxnSpPr>
          <p:nvPr/>
        </p:nvCxnSpPr>
        <p:spPr>
          <a:xfrm>
            <a:off x="4734000" y="1828800"/>
            <a:ext cx="2160" cy="2160"/>
          </a:xfrm>
          <a:prstGeom prst="curvedConnector5">
            <a:avLst>
              <a:gd name="adj1" fmla="val 14400000"/>
              <a:gd name="adj2" fmla="val 40000"/>
              <a:gd name="adj3" fmla="val 1440000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4" name=""/>
          <p:cNvCxnSpPr>
            <a:stCxn id="380" idx="3"/>
            <a:endCxn id="334" idx="1"/>
          </p:cNvCxnSpPr>
          <p:nvPr/>
        </p:nvCxnSpPr>
        <p:spPr>
          <a:xfrm>
            <a:off x="4733640" y="1828440"/>
            <a:ext cx="2353320" cy="1119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5" name=""/>
          <p:cNvCxnSpPr>
            <a:stCxn id="362" idx="3"/>
            <a:endCxn id="341" idx="0"/>
          </p:cNvCxnSpPr>
          <p:nvPr/>
        </p:nvCxnSpPr>
        <p:spPr>
          <a:xfrm>
            <a:off x="5724360" y="1905120"/>
            <a:ext cx="945360" cy="3048480"/>
          </a:xfrm>
          <a:prstGeom prst="curved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6" name=""/>
          <p:cNvCxnSpPr>
            <a:stCxn id="371" idx="0"/>
            <a:endCxn id="333" idx="0"/>
          </p:cNvCxnSpPr>
          <p:nvPr/>
        </p:nvCxnSpPr>
        <p:spPr>
          <a:xfrm flipH="1" rot="16200000">
            <a:off x="6901560" y="1831680"/>
            <a:ext cx="991080" cy="678600"/>
          </a:xfrm>
          <a:prstGeom prst="curvedConnector5">
            <a:avLst>
              <a:gd name="adj1" fmla="val -23074"/>
              <a:gd name="adj2" fmla="val 50000"/>
              <a:gd name="adj3" fmla="val -23074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7" name=""/>
          <p:cNvCxnSpPr/>
          <p:nvPr/>
        </p:nvCxnSpPr>
        <p:spPr>
          <a:xfrm flipV="1" rot="10800000">
            <a:off x="4723560" y="1675440"/>
            <a:ext cx="2286720" cy="3755160"/>
          </a:xfrm>
          <a:prstGeom prst="curvedConnector5">
            <a:avLst>
              <a:gd name="adj1" fmla="val 279987"/>
              <a:gd name="adj2" fmla="val 53039"/>
              <a:gd name="adj3" fmla="val 279987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8" name=""/>
          <p:cNvCxnSpPr>
            <a:stCxn id="378" idx="2"/>
            <a:endCxn id="333" idx="2"/>
          </p:cNvCxnSpPr>
          <p:nvPr/>
        </p:nvCxnSpPr>
        <p:spPr>
          <a:xfrm rot="5400000">
            <a:off x="6782040" y="2913840"/>
            <a:ext cx="2230920" cy="324360"/>
          </a:xfrm>
          <a:prstGeom prst="curvedConnector5">
            <a:avLst>
              <a:gd name="adj1" fmla="val 15800"/>
              <a:gd name="adj2" fmla="val 185444"/>
              <a:gd name="adj3" fmla="val 1580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9" name=""/>
          <p:cNvCxnSpPr/>
          <p:nvPr/>
        </p:nvCxnSpPr>
        <p:spPr>
          <a:xfrm flipH="1" flipV="1" rot="5400000">
            <a:off x="5805360" y="2271240"/>
            <a:ext cx="305640" cy="2620080"/>
          </a:xfrm>
          <a:prstGeom prst="curved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0" name=""/>
          <p:cNvCxnSpPr>
            <a:stCxn id="356" idx="3"/>
            <a:endCxn id="346" idx="0"/>
          </p:cNvCxnSpPr>
          <p:nvPr/>
        </p:nvCxnSpPr>
        <p:spPr>
          <a:xfrm>
            <a:off x="5114520" y="2666880"/>
            <a:ext cx="2926440" cy="1905840"/>
          </a:xfrm>
          <a:prstGeom prst="curved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1" name=""/>
          <p:cNvCxnSpPr>
            <a:stCxn id="360" idx="2"/>
            <a:endCxn id="351" idx="0"/>
          </p:cNvCxnSpPr>
          <p:nvPr/>
        </p:nvCxnSpPr>
        <p:spPr>
          <a:xfrm rot="5400000">
            <a:off x="4343400" y="3904200"/>
            <a:ext cx="2383560" cy="47700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"/>
          <p:cNvCxnSpPr>
            <a:stCxn id="359" idx="3"/>
            <a:endCxn id="341" idx="0"/>
          </p:cNvCxnSpPr>
          <p:nvPr/>
        </p:nvCxnSpPr>
        <p:spPr>
          <a:xfrm>
            <a:off x="5952600" y="2743200"/>
            <a:ext cx="716760" cy="2210400"/>
          </a:xfrm>
          <a:prstGeom prst="curved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3" name=""/>
          <p:cNvCxnSpPr>
            <a:stCxn id="339" idx="2"/>
            <a:endCxn id="351" idx="0"/>
          </p:cNvCxnSpPr>
          <p:nvPr/>
        </p:nvCxnSpPr>
        <p:spPr>
          <a:xfrm rot="5400000">
            <a:off x="4834080" y="3718440"/>
            <a:ext cx="2079000" cy="1153440"/>
          </a:xfrm>
          <a:prstGeom prst="curvedConnector5">
            <a:avLst>
              <a:gd name="adj1" fmla="val 49948"/>
              <a:gd name="adj2" fmla="val 49984"/>
              <a:gd name="adj3" fmla="val 49948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Y2K Readiness Statist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999-2002: Of IT systems that will experience Y2K failures, less than 20% will fail at midnight on January 1st,200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reater than 90% of embedded real-time systems will fail within minutes of 1/1/200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uly 1999-March 2000: 30% to 50% experience a mission-critical failure (15 % in the United Stat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81880" y="228600"/>
            <a:ext cx="533520" cy="761760"/>
            <a:chOff x="8381880" y="228600"/>
            <a:chExt cx="533520" cy="761760"/>
          </a:xfrm>
        </p:grpSpPr>
        <p:grpSp>
          <p:nvGrpSpPr>
            <p:cNvPr id="104" name=""/>
            <p:cNvGrpSpPr/>
            <p:nvPr/>
          </p:nvGrpSpPr>
          <p:grpSpPr>
            <a:xfrm>
              <a:off x="8383320" y="228600"/>
              <a:ext cx="532080" cy="761760"/>
              <a:chOff x="8383320" y="228600"/>
              <a:chExt cx="532080" cy="761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8383320" y="486000"/>
                <a:ext cx="529560" cy="504360"/>
                <a:chOff x="8383320" y="486000"/>
                <a:chExt cx="529560" cy="5043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8383320" y="49464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8664120" y="48888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817120" y="48888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521920" y="48600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8389080" y="228600"/>
                <a:ext cx="52632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8392320" y="585360"/>
              <a:ext cx="46548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1880" y="666360"/>
              <a:ext cx="53136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94120" y="759600"/>
              <a:ext cx="33408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787400" y="3919680"/>
            <a:ext cx="1028880" cy="23288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97360" y="3890880"/>
            <a:ext cx="1028880" cy="23288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00800" y="3886200"/>
            <a:ext cx="1028880" cy="23288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3480" y="3876840"/>
            <a:ext cx="1028520" cy="23288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28800" y="2743200"/>
            <a:ext cx="5638680" cy="21528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86040" y="4343400"/>
            <a:ext cx="4991040" cy="30492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71560" y="4724280"/>
            <a:ext cx="5695920" cy="32400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QSeri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05120" y="5162400"/>
            <a:ext cx="3581280" cy="32400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Integrated Service Level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tegrated SLAs -- starting with Response Time -- critical for User/Client Satisfa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753200" y="57150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S/39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19920" y="57150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76840" y="5715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S/40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47760" y="57150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386080" y="2971800"/>
            <a:ext cx="4647960" cy="1276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Help Desk -- Operations -- Problem Solving Experts</a:t>
            </a:r>
            <a:endParaRPr b="1" lang="en-US" sz="20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Integrated Service Level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w apps-- Mix of old and new(Y2K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eb, Extranets, WANs, Supply Chain link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3429000" y="2743200"/>
            <a:ext cx="2438280" cy="7621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286000" y="3200400"/>
            <a:ext cx="60948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8120" y="3809880"/>
            <a:ext cx="60948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3809880"/>
            <a:ext cx="60948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600" y="3809880"/>
            <a:ext cx="60948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3809880"/>
            <a:ext cx="60948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53080" y="3124080"/>
            <a:ext cx="60984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15200" y="2666880"/>
            <a:ext cx="60948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23880" y="2743200"/>
            <a:ext cx="60984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32360" y="2895480"/>
            <a:ext cx="13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We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23880" y="3962520"/>
            <a:ext cx="990720" cy="1218960"/>
          </a:xfrm>
          <a:prstGeom prst="cube">
            <a:avLst>
              <a:gd name="adj" fmla="val 17500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72240" y="3962520"/>
            <a:ext cx="947880" cy="1218960"/>
          </a:xfrm>
          <a:prstGeom prst="cube">
            <a:avLst>
              <a:gd name="adj" fmla="val 17500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24960" y="480060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30480" y="480060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00200" y="4267080"/>
            <a:ext cx="609480" cy="53352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81680" y="4267080"/>
            <a:ext cx="609840" cy="53352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24080" y="4876920"/>
            <a:ext cx="2743200" cy="1447560"/>
          </a:xfrm>
          <a:prstGeom prst="cube">
            <a:avLst>
              <a:gd name="adj" fmla="val 10527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5867280"/>
            <a:ext cx="14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S/39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rot="10800000">
            <a:off x="2133000" y="2818800"/>
            <a:ext cx="1296000" cy="116640"/>
          </a:xfrm>
          <a:prstGeom prst="curvedConnector5">
            <a:avLst>
              <a:gd name="adj1" fmla="val 49986"/>
              <a:gd name="adj2" fmla="val 49845"/>
              <a:gd name="adj3" fmla="val 49986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0" name=""/>
          <p:cNvCxnSpPr>
            <a:stCxn id="411" idx="1"/>
            <a:endCxn id="412" idx="5"/>
          </p:cNvCxnSpPr>
          <p:nvPr/>
        </p:nvCxnSpPr>
        <p:spPr>
          <a:xfrm flipV="1" rot="10800000">
            <a:off x="2894760" y="3123720"/>
            <a:ext cx="534240" cy="248400"/>
          </a:xfrm>
          <a:prstGeom prst="curvedConnector5">
            <a:avLst>
              <a:gd name="adj1" fmla="val 49966"/>
              <a:gd name="adj2" fmla="val 49927"/>
              <a:gd name="adj3" fmla="val 49966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1" name=""/>
          <p:cNvCxnSpPr>
            <a:stCxn id="411" idx="1"/>
            <a:endCxn id="413" idx="0"/>
          </p:cNvCxnSpPr>
          <p:nvPr/>
        </p:nvCxnSpPr>
        <p:spPr>
          <a:xfrm flipV="1" rot="10800000">
            <a:off x="3409200" y="3123000"/>
            <a:ext cx="19800" cy="686520"/>
          </a:xfrm>
          <a:prstGeom prst="curved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5400000">
            <a:off x="4257000" y="3438360"/>
            <a:ext cx="305280" cy="438840"/>
          </a:xfrm>
          <a:prstGeom prst="curvedConnector5">
            <a:avLst>
              <a:gd name="adj1" fmla="val 49940"/>
              <a:gd name="adj2" fmla="val 50000"/>
              <a:gd name="adj3" fmla="val 4994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3" name=""/>
          <p:cNvCxnSpPr/>
          <p:nvPr/>
        </p:nvCxnSpPr>
        <p:spPr>
          <a:xfrm flipH="1" rot="16200000">
            <a:off x="4790160" y="3419280"/>
            <a:ext cx="305280" cy="477000"/>
          </a:xfrm>
          <a:prstGeom prst="curvedConnector5">
            <a:avLst>
              <a:gd name="adj1" fmla="val 49940"/>
              <a:gd name="adj2" fmla="val 50000"/>
              <a:gd name="adj3" fmla="val 4994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4" name=""/>
          <p:cNvCxnSpPr/>
          <p:nvPr/>
        </p:nvCxnSpPr>
        <p:spPr>
          <a:xfrm>
            <a:off x="5867280" y="3030120"/>
            <a:ext cx="210240" cy="780120"/>
          </a:xfrm>
          <a:prstGeom prst="curved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5" name=""/>
          <p:cNvCxnSpPr/>
          <p:nvPr/>
        </p:nvCxnSpPr>
        <p:spPr>
          <a:xfrm>
            <a:off x="5943240" y="2971800"/>
            <a:ext cx="610200" cy="38016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6" name=""/>
          <p:cNvCxnSpPr/>
          <p:nvPr/>
        </p:nvCxnSpPr>
        <p:spPr>
          <a:xfrm flipV="1">
            <a:off x="5943600" y="2819160"/>
            <a:ext cx="1372320" cy="78480"/>
          </a:xfrm>
          <a:prstGeom prst="curvedConnector5">
            <a:avLst>
              <a:gd name="adj1" fmla="val 49986"/>
              <a:gd name="adj2" fmla="val 49769"/>
              <a:gd name="adj3" fmla="val 49986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7" name=""/>
          <p:cNvCxnSpPr>
            <a:stCxn id="419" idx="3"/>
            <a:endCxn id="421" idx="0"/>
          </p:cNvCxnSpPr>
          <p:nvPr/>
        </p:nvCxnSpPr>
        <p:spPr>
          <a:xfrm flipH="1" rot="16200000">
            <a:off x="1557000" y="3413520"/>
            <a:ext cx="762840" cy="335880"/>
          </a:xfrm>
          <a:prstGeom prst="bentConnector3">
            <a:avLst>
              <a:gd name="adj1" fmla="val 5000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8" name=""/>
          <p:cNvCxnSpPr>
            <a:stCxn id="412" idx="3"/>
            <a:endCxn id="421" idx="0"/>
          </p:cNvCxnSpPr>
          <p:nvPr/>
        </p:nvCxnSpPr>
        <p:spPr>
          <a:xfrm rot="5400000">
            <a:off x="2167200" y="3596400"/>
            <a:ext cx="305640" cy="427680"/>
          </a:xfrm>
          <a:prstGeom prst="bentConnector3">
            <a:avLst>
              <a:gd name="adj1" fmla="val 5000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9" name=""/>
          <p:cNvCxnSpPr>
            <a:stCxn id="413" idx="3"/>
            <a:endCxn id="421" idx="5"/>
          </p:cNvCxnSpPr>
          <p:nvPr/>
        </p:nvCxnSpPr>
        <p:spPr>
          <a:xfrm rot="5400000">
            <a:off x="2795760" y="3985200"/>
            <a:ext cx="218160" cy="781920"/>
          </a:xfrm>
          <a:prstGeom prst="bentConnector2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14" idx="3"/>
            <a:endCxn id="421" idx="5"/>
          </p:cNvCxnSpPr>
          <p:nvPr/>
        </p:nvCxnSpPr>
        <p:spPr>
          <a:xfrm rot="5400000">
            <a:off x="3214800" y="3566160"/>
            <a:ext cx="218160" cy="1620000"/>
          </a:xfrm>
          <a:prstGeom prst="bent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1" name=""/>
          <p:cNvCxnSpPr>
            <a:stCxn id="415" idx="3"/>
            <a:endCxn id="422" idx="2"/>
          </p:cNvCxnSpPr>
          <p:nvPr/>
        </p:nvCxnSpPr>
        <p:spPr>
          <a:xfrm flipH="1" rot="16200000">
            <a:off x="5665680" y="3648600"/>
            <a:ext cx="388080" cy="1624680"/>
          </a:xfrm>
          <a:prstGeom prst="bent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2" name=""/>
          <p:cNvCxnSpPr>
            <a:stCxn id="416" idx="3"/>
            <a:endCxn id="422" idx="2"/>
          </p:cNvCxnSpPr>
          <p:nvPr/>
        </p:nvCxnSpPr>
        <p:spPr>
          <a:xfrm flipH="1" rot="16200000">
            <a:off x="6161040" y="4143960"/>
            <a:ext cx="388080" cy="633960"/>
          </a:xfrm>
          <a:prstGeom prst="bent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3" name=""/>
          <p:cNvCxnSpPr>
            <a:stCxn id="417" idx="3"/>
            <a:endCxn id="422" idx="0"/>
          </p:cNvCxnSpPr>
          <p:nvPr/>
        </p:nvCxnSpPr>
        <p:spPr>
          <a:xfrm flipH="1" rot="16200000">
            <a:off x="6823440" y="3557160"/>
            <a:ext cx="38196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4" name=""/>
          <p:cNvCxnSpPr>
            <a:stCxn id="418" idx="3"/>
            <a:endCxn id="422" idx="0"/>
          </p:cNvCxnSpPr>
          <p:nvPr/>
        </p:nvCxnSpPr>
        <p:spPr>
          <a:xfrm rot="5400000">
            <a:off x="6976440" y="3376440"/>
            <a:ext cx="839160" cy="334080"/>
          </a:xfrm>
          <a:prstGeom prst="bentConnector3">
            <a:avLst>
              <a:gd name="adj1" fmla="val 5000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5" name=""/>
          <p:cNvCxnSpPr>
            <a:stCxn id="423" idx="2"/>
            <a:endCxn id="427" idx="2"/>
          </p:cNvCxnSpPr>
          <p:nvPr/>
        </p:nvCxnSpPr>
        <p:spPr>
          <a:xfrm flipH="1" rot="16200000">
            <a:off x="2292120" y="4845600"/>
            <a:ext cx="480240" cy="1183320"/>
          </a:xfrm>
          <a:prstGeom prst="bentConnector2">
            <a:avLst/>
          </a:prstGeom>
          <a:ln w="1015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6" name=""/>
          <p:cNvCxnSpPr>
            <a:stCxn id="424" idx="2"/>
            <a:endCxn id="427" idx="4"/>
          </p:cNvCxnSpPr>
          <p:nvPr/>
        </p:nvCxnSpPr>
        <p:spPr>
          <a:xfrm rot="5400000">
            <a:off x="6140520" y="4771080"/>
            <a:ext cx="480240" cy="1332720"/>
          </a:xfrm>
          <a:prstGeom prst="bentConnector2">
            <a:avLst/>
          </a:prstGeom>
          <a:ln w="1015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4952880" y="5410080"/>
            <a:ext cx="838440" cy="7336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B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5760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Integrated Service Level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at’s needed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sponse Time Manage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ost important indicator of End-User/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ustomer Satisfac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easure, monitor &amp; evaluate ROI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istent metrics and reporti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ffective problem correl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arget points of failur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ffective problem resolu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anual or automatic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6629400" y="1981080"/>
            <a:ext cx="1752480" cy="6746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6853320" y="205884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We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2895480"/>
            <a:ext cx="609480" cy="45720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129440" y="3565440"/>
            <a:ext cx="947880" cy="1219320"/>
          </a:xfrm>
          <a:prstGeom prst="cube">
            <a:avLst>
              <a:gd name="adj" fmla="val 17500"/>
            </a:avLst>
          </a:prstGeom>
          <a:solidFill>
            <a:srgbClr val="80008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87680" y="44038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38880" y="3870360"/>
            <a:ext cx="609840" cy="53352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29400" y="5173560"/>
            <a:ext cx="1828800" cy="965160"/>
          </a:xfrm>
          <a:prstGeom prst="cube">
            <a:avLst>
              <a:gd name="adj" fmla="val 10527"/>
            </a:avLst>
          </a:prstGeom>
          <a:solidFill>
            <a:srgbClr val="99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88040" y="58053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OS/390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45320" y="5376960"/>
            <a:ext cx="558720" cy="4888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DB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84560" y="555156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CIC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Integrated Service Level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tential Issue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sponse Time Perform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vailability/Utilization: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hat parameters, servers, apps, device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should be monitored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ow to measure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ow to identify problem areas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hich performance tool to deploy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ff-the-shelf or Custom-made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6629400" y="1981080"/>
            <a:ext cx="1752480" cy="6746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853320" y="205884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We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2895480"/>
            <a:ext cx="609480" cy="45720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29440" y="3565440"/>
            <a:ext cx="947880" cy="1219320"/>
          </a:xfrm>
          <a:prstGeom prst="cube">
            <a:avLst>
              <a:gd name="adj" fmla="val 17500"/>
            </a:avLst>
          </a:prstGeom>
          <a:solidFill>
            <a:srgbClr val="80008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087680" y="44038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238880" y="3870360"/>
            <a:ext cx="609840" cy="53352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29400" y="5173560"/>
            <a:ext cx="1828800" cy="965160"/>
          </a:xfrm>
          <a:prstGeom prst="cube">
            <a:avLst>
              <a:gd name="adj" fmla="val 10527"/>
            </a:avLst>
          </a:prstGeom>
          <a:solidFill>
            <a:srgbClr val="99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88040" y="58053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OS/390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45320" y="5376960"/>
            <a:ext cx="558720" cy="4888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DB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84560" y="555156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CIC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esponse Time(RT) Management: Value to MIS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level measurements are objective and recognizable by both IT &amp; B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-Y2K actuals as realistic benchmark (thresholds) -- accurately compare post-Y2K for negative/positive varian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ical reporting--illustrates impact on service levels by Y2K modifications /conversions /actions  / enhancement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4952880" y="1676520"/>
            <a:ext cx="1219320" cy="7596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8381880" y="228600"/>
            <a:ext cx="533520" cy="609120"/>
            <a:chOff x="8381880" y="228600"/>
            <a:chExt cx="533520" cy="609120"/>
          </a:xfrm>
        </p:grpSpPr>
        <p:grpSp>
          <p:nvGrpSpPr>
            <p:cNvPr id="477" name=""/>
            <p:cNvGrpSpPr/>
            <p:nvPr/>
          </p:nvGrpSpPr>
          <p:grpSpPr>
            <a:xfrm>
              <a:off x="8383320" y="228600"/>
              <a:ext cx="532080" cy="609120"/>
              <a:chOff x="8383320" y="228600"/>
              <a:chExt cx="532080" cy="60912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8383320" y="434520"/>
                <a:ext cx="529560" cy="403200"/>
                <a:chOff x="8383320" y="434520"/>
                <a:chExt cx="529560" cy="4032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8383320" y="441360"/>
                  <a:ext cx="95760" cy="396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664120" y="436680"/>
                  <a:ext cx="95760" cy="396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817120" y="436680"/>
                  <a:ext cx="95760" cy="396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521920" y="434520"/>
                  <a:ext cx="95760" cy="396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8389080" y="228600"/>
                <a:ext cx="526320" cy="3664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8392320" y="513720"/>
              <a:ext cx="465480" cy="518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81880" y="578520"/>
              <a:ext cx="531360" cy="55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94120" y="653400"/>
              <a:ext cx="334080" cy="55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T Management:Value to M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lows for Trend Analysis: compensates possible degrade before SLAs are violat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cording of improved responsiveness as problems are fix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ccurate Apps/resource capacity planning possible because of historical dat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ical Rep RT Degrade -- Used by Capacity Planners to Plan New HW/Licen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5562720" y="685800"/>
            <a:ext cx="1218960" cy="7632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8458200" y="6095880"/>
            <a:ext cx="457200" cy="761760"/>
            <a:chOff x="8458200" y="6095880"/>
            <a:chExt cx="457200" cy="761760"/>
          </a:xfrm>
        </p:grpSpPr>
        <p:grpSp>
          <p:nvGrpSpPr>
            <p:cNvPr id="491" name=""/>
            <p:cNvGrpSpPr/>
            <p:nvPr/>
          </p:nvGrpSpPr>
          <p:grpSpPr>
            <a:xfrm>
              <a:off x="8459280" y="6095880"/>
              <a:ext cx="456120" cy="761760"/>
              <a:chOff x="8459280" y="6095880"/>
              <a:chExt cx="456120" cy="76176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8459280" y="6353280"/>
                <a:ext cx="453960" cy="504360"/>
                <a:chOff x="8459280" y="6353280"/>
                <a:chExt cx="453960" cy="5043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8459280" y="636192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700120" y="635616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831160" y="635616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578080" y="635328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>
                <a:off x="8464320" y="6095880"/>
                <a:ext cx="45108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8467200" y="6452640"/>
              <a:ext cx="39924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58200" y="6533640"/>
              <a:ext cx="4554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68640" y="6626880"/>
              <a:ext cx="2862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T Management:Value to MIS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oice of Vendor off-the-shelf vs In-Hou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st of Off-The-Shelf RT implementation /main/admin minimal vs Custom-bui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ical report: doc of IT responsivenes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st Justification: Avoidance of SLA Penalty ($$??);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ical records also allows for Pro-rating penalties!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grpSp>
          <p:nvGrpSpPr>
            <p:cNvPr id="504" name=""/>
            <p:cNvGrpSpPr/>
            <p:nvPr/>
          </p:nvGrpSpPr>
          <p:grpSpPr>
            <a:xfrm>
              <a:off x="8459280" y="5791320"/>
              <a:ext cx="456120" cy="838080"/>
              <a:chOff x="8459280" y="5791320"/>
              <a:chExt cx="456120" cy="83808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8459280" y="6074280"/>
                <a:ext cx="453960" cy="555120"/>
                <a:chOff x="8459280" y="6074280"/>
                <a:chExt cx="453960" cy="55512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8459280" y="6084000"/>
                  <a:ext cx="82080" cy="54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700120" y="6077160"/>
                  <a:ext cx="82080" cy="54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831160" y="6077160"/>
                  <a:ext cx="82080" cy="54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578080" y="6074280"/>
                  <a:ext cx="82080" cy="54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8464320" y="5791320"/>
                <a:ext cx="451080" cy="5036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8467200" y="6183720"/>
              <a:ext cx="399240" cy="71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458200" y="6272640"/>
              <a:ext cx="455400" cy="75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468640" y="6375240"/>
              <a:ext cx="286200" cy="75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5638680" y="838080"/>
            <a:ext cx="1219320" cy="7632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T Management:Value to BU/E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ol for Business/Prod/Change Mgmt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nitor, Measure, Analyze, Manage Effectiveness/Productivity of Staff :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line transactions, resolve time, download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perator activity, browse time (or think time), transaction coun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dentify users who need training, or measure the effectiveness of traini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nitor changes in productivity: cos’ of Y2K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5562720" y="838080"/>
            <a:ext cx="1218960" cy="7632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8458200" y="5791320"/>
            <a:ext cx="457200" cy="761400"/>
            <a:chOff x="8458200" y="5791320"/>
            <a:chExt cx="457200" cy="761400"/>
          </a:xfrm>
        </p:grpSpPr>
        <p:grpSp>
          <p:nvGrpSpPr>
            <p:cNvPr id="519" name=""/>
            <p:cNvGrpSpPr/>
            <p:nvPr/>
          </p:nvGrpSpPr>
          <p:grpSpPr>
            <a:xfrm>
              <a:off x="8459280" y="5791320"/>
              <a:ext cx="456120" cy="761400"/>
              <a:chOff x="8459280" y="5791320"/>
              <a:chExt cx="456120" cy="761400"/>
            </a:xfrm>
          </p:grpSpPr>
          <p:grpSp>
            <p:nvGrpSpPr>
              <p:cNvPr id="520" name=""/>
              <p:cNvGrpSpPr/>
              <p:nvPr/>
            </p:nvGrpSpPr>
            <p:grpSpPr>
              <a:xfrm>
                <a:off x="8459280" y="6048720"/>
                <a:ext cx="453960" cy="504000"/>
                <a:chOff x="8459280" y="6048720"/>
                <a:chExt cx="453960" cy="5040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8459280" y="6057360"/>
                  <a:ext cx="82080" cy="49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700120" y="6051600"/>
                  <a:ext cx="82080" cy="49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831160" y="6051600"/>
                  <a:ext cx="82080" cy="49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578080" y="6048720"/>
                  <a:ext cx="82080" cy="49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8464320" y="5791320"/>
                <a:ext cx="45108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8467200" y="6147720"/>
              <a:ext cx="39924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58200" y="6228720"/>
              <a:ext cx="4554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68640" y="6321960"/>
              <a:ext cx="2862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T Management: Value to BU/E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bjective/Acceptable Threshold Level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ardstick to measure drop-off in real term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t “My system/or the network is slow!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st-Justification: Example (50 User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3% productivity (P) increase(conservative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verage cost/operator-end user:US$20K/yea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st of RT solution: US$50K (50 User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P) increase = $600/year per End Us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OI = 1.5 yea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31" name=""/>
          <p:cNvSpPr/>
          <p:nvPr/>
        </p:nvSpPr>
        <p:spPr>
          <a:xfrm>
            <a:off x="5638680" y="838080"/>
            <a:ext cx="1219320" cy="7632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8458200" y="5867280"/>
            <a:ext cx="457200" cy="761760"/>
            <a:chOff x="8458200" y="5867280"/>
            <a:chExt cx="457200" cy="761760"/>
          </a:xfrm>
        </p:grpSpPr>
        <p:grpSp>
          <p:nvGrpSpPr>
            <p:cNvPr id="533" name=""/>
            <p:cNvGrpSpPr/>
            <p:nvPr/>
          </p:nvGrpSpPr>
          <p:grpSpPr>
            <a:xfrm>
              <a:off x="8459280" y="5867280"/>
              <a:ext cx="456120" cy="761760"/>
              <a:chOff x="8459280" y="5867280"/>
              <a:chExt cx="456120" cy="761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8459280" y="6124680"/>
                <a:ext cx="453960" cy="504360"/>
                <a:chOff x="8459280" y="6124680"/>
                <a:chExt cx="453960" cy="50436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8459280" y="613332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700120" y="612756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831160" y="612756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578080" y="612468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8464320" y="5867280"/>
                <a:ext cx="45108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8467200" y="6224040"/>
              <a:ext cx="39924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458200" y="6305040"/>
              <a:ext cx="4554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468640" y="6398280"/>
              <a:ext cx="2862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Integrated Service Level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ve step proc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1. Obser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2. Isolat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3. Fix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4. Prev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5. Automat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247640" y="1585440"/>
            <a:ext cx="4792320" cy="4799160"/>
            <a:chOff x="4247640" y="1585440"/>
            <a:chExt cx="4792320" cy="4799160"/>
          </a:xfrm>
        </p:grpSpPr>
        <p:sp>
          <p:nvSpPr>
            <p:cNvPr id="546" name=""/>
            <p:cNvSpPr/>
            <p:nvPr/>
          </p:nvSpPr>
          <p:spPr>
            <a:xfrm rot="12600000">
              <a:off x="7772040" y="3300120"/>
              <a:ext cx="588960" cy="2871720"/>
            </a:xfrm>
            <a:custGeom>
              <a:avLst/>
              <a:gdLst>
                <a:gd name="textAreaLeft" fmla="*/ 78840 w 588960"/>
                <a:gd name="textAreaRight" fmla="*/ 510120 w 588960"/>
                <a:gd name="textAreaTop" fmla="*/ 502560 h 2871720"/>
                <a:gd name="textAreaBottom" fmla="*/ 2082240 h 28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7100000">
              <a:off x="5865480" y="4292280"/>
              <a:ext cx="588960" cy="2872080"/>
            </a:xfrm>
            <a:custGeom>
              <a:avLst/>
              <a:gdLst>
                <a:gd name="textAreaLeft" fmla="*/ 78840 w 588960"/>
                <a:gd name="textAreaRight" fmla="*/ 510120 w 588960"/>
                <a:gd name="textAreaTop" fmla="*/ 502560 h 2872080"/>
                <a:gd name="textAreaBottom" fmla="*/ 2082240 h 28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63920" y="2843280"/>
              <a:ext cx="588960" cy="2871720"/>
            </a:xfrm>
            <a:custGeom>
              <a:avLst/>
              <a:gdLst>
                <a:gd name="textAreaLeft" fmla="*/ 78840 w 588960"/>
                <a:gd name="textAreaRight" fmla="*/ 510120 w 588960"/>
                <a:gd name="textAreaTop" fmla="*/ 502560 h 2871720"/>
                <a:gd name="textAreaBottom" fmla="*/ 2082240 h 28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3694200">
              <a:off x="5355720" y="1091880"/>
              <a:ext cx="588960" cy="2871720"/>
            </a:xfrm>
            <a:custGeom>
              <a:avLst/>
              <a:gdLst>
                <a:gd name="textAreaLeft" fmla="*/ 78840 w 588960"/>
                <a:gd name="textAreaRight" fmla="*/ 510120 w 588960"/>
                <a:gd name="textAreaTop" fmla="*/ 502560 h 2871720"/>
                <a:gd name="textAreaBottom" fmla="*/ 2082240 h 28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7770600">
              <a:off x="7184520" y="1341360"/>
              <a:ext cx="588960" cy="2871720"/>
            </a:xfrm>
            <a:custGeom>
              <a:avLst/>
              <a:gdLst>
                <a:gd name="textAreaLeft" fmla="*/ 78840 w 588960"/>
                <a:gd name="textAreaRight" fmla="*/ 510120 w 588960"/>
                <a:gd name="textAreaTop" fmla="*/ 502560 h 2871720"/>
                <a:gd name="textAreaBottom" fmla="*/ 2082240 h 28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 txBox="1"/>
          <p:nvPr/>
        </p:nvSpPr>
        <p:spPr>
          <a:xfrm rot="8002200">
            <a:off x="5067000" y="2898720"/>
            <a:ext cx="2819520" cy="24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57536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BSERVE   ISOLATE    FIX    PREVENT   AUTOMAT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Y2K Readiness Statist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8380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8381880" y="0"/>
            <a:ext cx="457200" cy="761760"/>
            <a:chOff x="8381880" y="0"/>
            <a:chExt cx="457200" cy="761760"/>
          </a:xfrm>
        </p:grpSpPr>
        <p:grpSp>
          <p:nvGrpSpPr>
            <p:cNvPr id="119" name=""/>
            <p:cNvGrpSpPr/>
            <p:nvPr/>
          </p:nvGrpSpPr>
          <p:grpSpPr>
            <a:xfrm>
              <a:off x="8382960" y="0"/>
              <a:ext cx="456120" cy="761760"/>
              <a:chOff x="8382960" y="0"/>
              <a:chExt cx="456120" cy="76176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8382960" y="257400"/>
                <a:ext cx="453960" cy="504360"/>
                <a:chOff x="8382960" y="257400"/>
                <a:chExt cx="453960" cy="5043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8382960" y="26604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623800" y="26028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754840" y="26028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501760" y="25740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8388000" y="0"/>
                <a:ext cx="45108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8390880" y="356760"/>
              <a:ext cx="39924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1880" y="437760"/>
              <a:ext cx="4554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92320" y="531000"/>
              <a:ext cx="2862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839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bserve- Perform an Impact Audi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stablish baselin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37080" indent="-1872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PU/DB/Applications, response time, throughpu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hat constitutes normal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37080" indent="-1872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asonable expectation of Service-Level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37080" indent="-1872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erfect performance requires infinite resource -- find the tradeoffs--target should be “optimum”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hat are the important workloads and users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37080" indent="-1872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rder entry vs ad hoc database vs accounts receivabl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hat are cycles of activity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Integrated SLA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7247880" y="153720"/>
            <a:ext cx="1698840" cy="1746720"/>
            <a:chOff x="7247880" y="153720"/>
            <a:chExt cx="1698840" cy="1746720"/>
          </a:xfrm>
        </p:grpSpPr>
        <p:sp>
          <p:nvSpPr>
            <p:cNvPr id="555" name=""/>
            <p:cNvSpPr/>
            <p:nvPr/>
          </p:nvSpPr>
          <p:spPr>
            <a:xfrm rot="12600000">
              <a:off x="8489520" y="772560"/>
              <a:ext cx="207000" cy="1055520"/>
            </a:xfrm>
            <a:custGeom>
              <a:avLst/>
              <a:gdLst>
                <a:gd name="textAreaLeft" fmla="*/ 27720 w 207000"/>
                <a:gd name="textAreaRight" fmla="*/ 179280 w 207000"/>
                <a:gd name="textAreaTop" fmla="*/ 184680 h 1055520"/>
                <a:gd name="textAreaBottom" fmla="*/ 765360 h 10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7100000">
              <a:off x="7814160" y="1160280"/>
              <a:ext cx="216360" cy="1009800"/>
            </a:xfrm>
            <a:custGeom>
              <a:avLst/>
              <a:gdLst>
                <a:gd name="textAreaLeft" fmla="*/ 28800 w 216360"/>
                <a:gd name="textAreaRight" fmla="*/ 187560 w 216360"/>
                <a:gd name="textAreaTop" fmla="*/ 176760 h 1009800"/>
                <a:gd name="textAreaBottom" fmla="*/ 7322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91080" y="604800"/>
              <a:ext cx="207000" cy="1055520"/>
            </a:xfrm>
            <a:custGeom>
              <a:avLst/>
              <a:gdLst>
                <a:gd name="textAreaLeft" fmla="*/ 27720 w 207000"/>
                <a:gd name="textAreaRight" fmla="*/ 179280 w 207000"/>
                <a:gd name="textAreaTop" fmla="*/ 184680 h 1055520"/>
                <a:gd name="textAreaBottom" fmla="*/ 765360 h 10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3694200">
              <a:off x="7635240" y="-15480"/>
              <a:ext cx="216360" cy="1009800"/>
            </a:xfrm>
            <a:custGeom>
              <a:avLst/>
              <a:gdLst>
                <a:gd name="textAreaLeft" fmla="*/ 28800 w 216360"/>
                <a:gd name="textAreaRight" fmla="*/ 187560 w 216360"/>
                <a:gd name="textAreaTop" fmla="*/ 176760 h 1009800"/>
                <a:gd name="textAreaBottom" fmla="*/ 7322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770600">
              <a:off x="8278200" y="75600"/>
              <a:ext cx="216360" cy="1009800"/>
            </a:xfrm>
            <a:custGeom>
              <a:avLst/>
              <a:gdLst>
                <a:gd name="textAreaLeft" fmla="*/ 28800 w 216360"/>
                <a:gd name="textAreaRight" fmla="*/ 187560 w 216360"/>
                <a:gd name="textAreaTop" fmla="*/ 176760 h 1009800"/>
                <a:gd name="textAreaBottom" fmla="*/ 7322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Integrated SLA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sol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erts tied to resource perform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dentify problem sour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twork? Servers? Desktops?Applications?DB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rdware failure? Corrupted software?Y2K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ntention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Looping task?Y2K errors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set alerts to better isolate over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7275600" y="121680"/>
            <a:ext cx="1918080" cy="1920240"/>
            <a:chOff x="7275600" y="121680"/>
            <a:chExt cx="1918080" cy="1920240"/>
          </a:xfrm>
        </p:grpSpPr>
        <p:sp>
          <p:nvSpPr>
            <p:cNvPr id="563" name=""/>
            <p:cNvSpPr/>
            <p:nvPr/>
          </p:nvSpPr>
          <p:spPr>
            <a:xfrm rot="12600000">
              <a:off x="8686440" y="80748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7100000">
              <a:off x="7923240" y="120456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22040" y="62496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3694200">
              <a:off x="7719120" y="-756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770600">
              <a:off x="8451000" y="234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Integrated SLA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eploy System/Apps Mgmt Too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ill a user - Swap Out systems &amp; applications suites wholesale!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placement/Upgrade/Patch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-prioritize workloa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just paramet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hatever it takes!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275600" y="45720"/>
            <a:ext cx="1918080" cy="1920240"/>
            <a:chOff x="7275600" y="45720"/>
            <a:chExt cx="1918080" cy="1920240"/>
          </a:xfrm>
        </p:grpSpPr>
        <p:sp>
          <p:nvSpPr>
            <p:cNvPr id="571" name=""/>
            <p:cNvSpPr/>
            <p:nvPr/>
          </p:nvSpPr>
          <p:spPr>
            <a:xfrm rot="12600000">
              <a:off x="8686440" y="73152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7100000">
              <a:off x="7923240" y="11286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22040" y="5490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3694200">
              <a:off x="7719120" y="-15156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770600">
              <a:off x="8451000" y="-522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Integrated SLA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t alerts as warning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just parameters before failu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arn from fix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gotiate expecta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7275600" y="-30600"/>
            <a:ext cx="1918080" cy="1920240"/>
            <a:chOff x="7275600" y="-30600"/>
            <a:chExt cx="1918080" cy="1920240"/>
          </a:xfrm>
        </p:grpSpPr>
        <p:sp>
          <p:nvSpPr>
            <p:cNvPr id="579" name=""/>
            <p:cNvSpPr/>
            <p:nvPr/>
          </p:nvSpPr>
          <p:spPr>
            <a:xfrm rot="12600000">
              <a:off x="8686440" y="6552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7100000">
              <a:off x="7923240" y="105228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322040" y="47268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3694200">
              <a:off x="7719120" y="-22788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770600">
              <a:off x="8451000" y="-12852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Integrated SLA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om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dentify repeating problem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etermine standard resolu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ild routi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PE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7275600" y="45720"/>
            <a:ext cx="1918080" cy="1920240"/>
            <a:chOff x="7275600" y="45720"/>
            <a:chExt cx="1918080" cy="1920240"/>
          </a:xfrm>
        </p:grpSpPr>
        <p:sp>
          <p:nvSpPr>
            <p:cNvPr id="587" name=""/>
            <p:cNvSpPr/>
            <p:nvPr/>
          </p:nvSpPr>
          <p:spPr>
            <a:xfrm rot="12600000">
              <a:off x="8686440" y="73152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7100000">
              <a:off x="7923240" y="11286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322040" y="5490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3694200">
              <a:off x="7719120" y="-15156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770600">
              <a:off x="8451000" y="-522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Y2K Systems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environment(Y2K)/platforms may change but the problems remain the sam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dentify standard metric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 consistent too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tegrate SL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just organization to leverage technolog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ck and manage over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ank You!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bert Chu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ior Manager (ASEAN/SA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DLE FAR EAST LT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mail: robert_chua@candle.co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el: 420-3648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ww.candle.com/notesb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8381880" y="228600"/>
            <a:ext cx="533520" cy="761760"/>
            <a:chOff x="8381880" y="228600"/>
            <a:chExt cx="533520" cy="761760"/>
          </a:xfrm>
        </p:grpSpPr>
        <p:grpSp>
          <p:nvGrpSpPr>
            <p:cNvPr id="597" name=""/>
            <p:cNvGrpSpPr/>
            <p:nvPr/>
          </p:nvGrpSpPr>
          <p:grpSpPr>
            <a:xfrm>
              <a:off x="8383320" y="228600"/>
              <a:ext cx="532080" cy="761760"/>
              <a:chOff x="8383320" y="228600"/>
              <a:chExt cx="532080" cy="76176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8383320" y="486000"/>
                <a:ext cx="529560" cy="504360"/>
                <a:chOff x="8383320" y="486000"/>
                <a:chExt cx="529560" cy="50436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8383320" y="49464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664120" y="48888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8817120" y="48888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8521920" y="48600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8389080" y="228600"/>
                <a:ext cx="52632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8392320" y="585360"/>
              <a:ext cx="46548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81880" y="666360"/>
              <a:ext cx="53136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394120" y="759600"/>
              <a:ext cx="33408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Y2K Readiness Statist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an 2000-Dec 2000: 10% experience system failures within 1st month of Milleniu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verall Y2K Readiness Project comple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1Q99-7%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2Q99-22%;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3Q99 - 42%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4Q99-24% 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mpleted by end-1998 - 1%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305920" y="228600"/>
            <a:ext cx="457200" cy="838080"/>
            <a:chOff x="8305920" y="228600"/>
            <a:chExt cx="457200" cy="838080"/>
          </a:xfrm>
        </p:grpSpPr>
        <p:grpSp>
          <p:nvGrpSpPr>
            <p:cNvPr id="132" name=""/>
            <p:cNvGrpSpPr/>
            <p:nvPr/>
          </p:nvGrpSpPr>
          <p:grpSpPr>
            <a:xfrm>
              <a:off x="8307000" y="228600"/>
              <a:ext cx="456120" cy="838080"/>
              <a:chOff x="8307000" y="228600"/>
              <a:chExt cx="456120" cy="8380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8307000" y="511560"/>
                <a:ext cx="453960" cy="555120"/>
                <a:chOff x="8307000" y="511560"/>
                <a:chExt cx="453960" cy="555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307000" y="521280"/>
                  <a:ext cx="82080" cy="54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547840" y="514440"/>
                  <a:ext cx="82080" cy="54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678880" y="514440"/>
                  <a:ext cx="82080" cy="54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425800" y="511560"/>
                  <a:ext cx="82080" cy="54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8312040" y="228600"/>
                <a:ext cx="451080" cy="5036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8314920" y="621000"/>
              <a:ext cx="399240" cy="71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05920" y="709920"/>
              <a:ext cx="455400" cy="75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16360" y="812520"/>
              <a:ext cx="286200" cy="75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%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685800"/>
          <a:ext cx="4191120" cy="617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85800"/>
                    <a:ext cx="41911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733920" y="0"/>
          <a:ext cx="5410080" cy="731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33920" y="0"/>
                    <a:ext cx="541008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0" y="0"/>
          <a:ext cx="8534520" cy="1219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85345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"/>
          <p:cNvGrpSpPr/>
          <p:nvPr/>
        </p:nvGrpSpPr>
        <p:grpSpPr>
          <a:xfrm>
            <a:off x="8458200" y="5791320"/>
            <a:ext cx="457200" cy="761400"/>
            <a:chOff x="8458200" y="5791320"/>
            <a:chExt cx="457200" cy="761400"/>
          </a:xfrm>
        </p:grpSpPr>
        <p:grpSp>
          <p:nvGrpSpPr>
            <p:cNvPr id="150" name=""/>
            <p:cNvGrpSpPr/>
            <p:nvPr/>
          </p:nvGrpSpPr>
          <p:grpSpPr>
            <a:xfrm>
              <a:off x="8459280" y="5791320"/>
              <a:ext cx="456120" cy="761400"/>
              <a:chOff x="8459280" y="5791320"/>
              <a:chExt cx="456120" cy="76140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8459280" y="6048720"/>
                <a:ext cx="453960" cy="504000"/>
                <a:chOff x="8459280" y="6048720"/>
                <a:chExt cx="453960" cy="5040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8459280" y="6057360"/>
                  <a:ext cx="82080" cy="49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700120" y="6051600"/>
                  <a:ext cx="82080" cy="49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831160" y="6051600"/>
                  <a:ext cx="82080" cy="49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78080" y="6048720"/>
                  <a:ext cx="82080" cy="49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464320" y="5791320"/>
                <a:ext cx="45108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8467200" y="6147720"/>
              <a:ext cx="39924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58200" y="6228720"/>
              <a:ext cx="4554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68640" y="6321960"/>
              <a:ext cx="2862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Y2K Readiness Statist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jor Concerns regarding Y2K Readiness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upplier Readiness - 15%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tingency Plans - 14% ;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thers - 12%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thers- business impact; supply chai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458200" y="228600"/>
            <a:ext cx="457200" cy="761760"/>
            <a:chOff x="8458200" y="228600"/>
            <a:chExt cx="457200" cy="761760"/>
          </a:xfrm>
        </p:grpSpPr>
        <p:grpSp>
          <p:nvGrpSpPr>
            <p:cNvPr id="163" name=""/>
            <p:cNvGrpSpPr/>
            <p:nvPr/>
          </p:nvGrpSpPr>
          <p:grpSpPr>
            <a:xfrm>
              <a:off x="8459280" y="228600"/>
              <a:ext cx="456120" cy="761760"/>
              <a:chOff x="8459280" y="228600"/>
              <a:chExt cx="456120" cy="76176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8459280" y="486000"/>
                <a:ext cx="453960" cy="504360"/>
                <a:chOff x="8459280" y="486000"/>
                <a:chExt cx="453960" cy="5043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8459280" y="49464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700120" y="48888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831160" y="48888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78080" y="48600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464320" y="228600"/>
                <a:ext cx="45108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8467200" y="585360"/>
              <a:ext cx="39924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58200" y="666360"/>
              <a:ext cx="4554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68640" y="759600"/>
              <a:ext cx="2862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tting There(Y2K Ready) Is Only Half The Battle!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ternal Y2K Compliance - First Step…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terprise is still subject to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tant change/new business needs (eg. EC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w technologies, new applications &amp; system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-going Maintenance &amp; Assess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levels - Have they degenerated after Y2K Conversions/Migrations?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458200" y="5867280"/>
            <a:ext cx="457200" cy="761760"/>
            <a:chOff x="8458200" y="5867280"/>
            <a:chExt cx="457200" cy="761760"/>
          </a:xfrm>
        </p:grpSpPr>
        <p:grpSp>
          <p:nvGrpSpPr>
            <p:cNvPr id="176" name=""/>
            <p:cNvGrpSpPr/>
            <p:nvPr/>
          </p:nvGrpSpPr>
          <p:grpSpPr>
            <a:xfrm>
              <a:off x="8459280" y="5867280"/>
              <a:ext cx="456120" cy="761760"/>
              <a:chOff x="8459280" y="5867280"/>
              <a:chExt cx="456120" cy="76176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8459280" y="6124680"/>
                <a:ext cx="453960" cy="504360"/>
                <a:chOff x="8459280" y="6124680"/>
                <a:chExt cx="453960" cy="50436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8459280" y="613332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700120" y="612756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831160" y="612756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578080" y="612468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8464320" y="5867280"/>
                <a:ext cx="45108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8467200" y="6224040"/>
              <a:ext cx="39924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58200" y="6305040"/>
              <a:ext cx="4554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68640" y="6398280"/>
              <a:ext cx="2862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tting There (Y2K Ready) Is Only Half The Battle!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n’t Forget --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Y2K is Not Just A “One-Day Issue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PTEMBER 9, 1999--(9999):”End Task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ugust 21, 1999 -- GPS Roll-over dat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ANUARY 1, 200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EB 29--Year 2000 is a Leap Year (366 Days): May confuse the computer; Impacts early 2001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1880" y="5867280"/>
            <a:ext cx="533520" cy="761760"/>
            <a:chOff x="8381880" y="5867280"/>
            <a:chExt cx="533520" cy="761760"/>
          </a:xfrm>
        </p:grpSpPr>
        <p:grpSp>
          <p:nvGrpSpPr>
            <p:cNvPr id="189" name=""/>
            <p:cNvGrpSpPr/>
            <p:nvPr/>
          </p:nvGrpSpPr>
          <p:grpSpPr>
            <a:xfrm>
              <a:off x="8383320" y="5867280"/>
              <a:ext cx="532080" cy="761760"/>
              <a:chOff x="8383320" y="5867280"/>
              <a:chExt cx="532080" cy="76176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8383320" y="6124680"/>
                <a:ext cx="529560" cy="504360"/>
                <a:chOff x="8383320" y="6124680"/>
                <a:chExt cx="529560" cy="5043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8383320" y="613332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664120" y="612756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817120" y="612756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521920" y="612468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8389080" y="5867280"/>
                <a:ext cx="52632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8392320" y="6224040"/>
              <a:ext cx="46548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1880" y="6305040"/>
              <a:ext cx="53136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94120" y="6398280"/>
              <a:ext cx="33408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mpact of Y2K Conversion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2K Full Conversion/Binary or Century Encoding/Integer Formatting /Window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act on system resources &amp; perform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gration to production - “Big Bang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eds constant monitoring of apps &amp; system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tire old SW + Introduce New SW =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troducing new unknowns ????????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ed continual “Audit” of systems &amp; apps response times &amp; perform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7T04:16:30Z</dcterms:created>
  <dc:creator>Ong Kuay Hock</dc:creator>
  <dc:description/>
  <dc:language>en-US</dc:language>
  <cp:lastModifiedBy>Ong Kuay Hock</cp:lastModifiedBy>
  <cp:lastPrinted>1999-05-20T03:24:36Z</cp:lastPrinted>
  <dcterms:modified xsi:type="dcterms:W3CDTF">1999-06-28T02:27:18Z</dcterms:modified>
  <cp:revision>9</cp:revision>
  <dc:subject/>
  <dc:title>No Slide Title</dc:title>
</cp:coreProperties>
</file>